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2D7-C4D9-40C0-B679-7871A097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1D0-5257-4B3C-85CF-E8451351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C21-BE5E-40BA-BC83-0CCF81B9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E81-026E-4CD4-A167-1ED47A60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C39-8BC5-4357-A2C1-9DA4A77C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9E0-4FEE-4B24-981A-84A75C43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092-AA2E-485D-97A0-AF5D1082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FE8-F15A-4463-917F-F6E815BF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660-28A2-47A2-ABB8-EE1CCA28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2D0-C327-4A6B-A661-E8E80A97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A70-7DB1-43FB-B7EB-ABAB1803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62C-D555-4A1D-AD1E-8CF1234D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FCA0-4A9D-46F5-BA5F-E8DC3C578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773360"/>
            <a:ext cx="575496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ssil fuels / crude oil / geologic formations beneath the Earth / coal / layers, veins, coal seams / natural gas / natural mixture of gases / primarily methane / biofuels / bioethanol / alcohol made by fermentation from carbohydrates / Biodiesel / vegetable oils / animal fats / wind power / conversion wind energy / wind turbines / wind generators / make electricity / offshore wind power / harness / better wind speeds / offshore compared to on land / solar power /conversion sunlight / into electricity / directly / using photovoltaics / indirectly / concentrated solar power / using lenses or mirrors / to focus sunlight /hydropower / energy of falling water / comes from potential energy / driving water to turbine / gener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549360"/>
            <a:ext cx="56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next  text boxes by using the following words and phrases (they are not in order with regard to the sli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143160" cy="2638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663640" cy="202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3357720"/>
            <a:ext cx="23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429000"/>
            <a:ext cx="2376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l. It is found in layers, veins, coal se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5734080"/>
            <a:ext cx="2376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al gas. It is a natural mixture of gases, primarily metha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4437000"/>
            <a:ext cx="26640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ssil fuels: they come from geologic formations beneath the Ear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File:Giant photovoltaic array.jpg"/>
          <p:cNvPicPr/>
          <p:nvPr/>
        </p:nvPicPr>
        <p:blipFill>
          <a:blip r:embed="rId1"/>
          <a:stretch/>
        </p:blipFill>
        <p:spPr>
          <a:xfrm>
            <a:off x="826920" y="3500280"/>
            <a:ext cx="4034160" cy="302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PS10 solar power tower.jpg"/>
          <p:cNvPicPr/>
          <p:nvPr/>
        </p:nvPicPr>
        <p:blipFill>
          <a:blip r:embed="rId2"/>
          <a:stretch/>
        </p:blipFill>
        <p:spPr>
          <a:xfrm>
            <a:off x="3708360" y="260280"/>
            <a:ext cx="4846680" cy="301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32360" y="3789360"/>
            <a:ext cx="2376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ly, by using photovolta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4869000"/>
            <a:ext cx="2376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ar power. Conversion of sunlight into 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112536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907920"/>
            <a:ext cx="2376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rectly, using concentrated solar power, that uses lenses or mirrors to focus sun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Archivo:Turbiny wiatrowe ubt.jpeg"/>
          <p:cNvPicPr/>
          <p:nvPr/>
        </p:nvPicPr>
        <p:blipFill>
          <a:blip r:embed="rId1"/>
          <a:stretch/>
        </p:blipFill>
        <p:spPr>
          <a:xfrm>
            <a:off x="900000" y="333360"/>
            <a:ext cx="3484800" cy="2067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Archivo:Windmills D1-D4 (Thornton Bank).jpg"/>
          <p:cNvPicPr/>
          <p:nvPr/>
        </p:nvPicPr>
        <p:blipFill>
          <a:blip r:embed="rId2"/>
          <a:stretch/>
        </p:blipFill>
        <p:spPr>
          <a:xfrm>
            <a:off x="5364000" y="2133720"/>
            <a:ext cx="292752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59280" y="549360"/>
            <a:ext cx="2376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 power. Conversion of wind energy by using wind turbines to make electri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068640"/>
            <a:ext cx="2376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hore wind power. To harness better wind speeds available offshore compared to on l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114800" cy="4772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0" y="981000"/>
            <a:ext cx="23763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fuels: Bioethanol, alcohol made by fermentation from carbohydrates, and biodiesel, obtained from vegetable oils or animal f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321080" cy="398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76720" y="4653000"/>
            <a:ext cx="2376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power. Energy of falling water: It comes from potential energy, driving water to a tur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43280" y="692280"/>
          <a:ext cx="368640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692280"/>
                    <a:ext cx="368640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8:21:48Z</dcterms:created>
  <dc:creator>Rafael Moreno</dc:creator>
  <dc:description/>
  <dc:language>en-US</dc:language>
  <cp:lastModifiedBy>Rafael Moreno</cp:lastModifiedBy>
  <dcterms:modified xsi:type="dcterms:W3CDTF">2012-03-02T16:51:12Z</dcterms:modified>
  <cp:revision>5</cp:revision>
  <dc:subject/>
  <dc:title>Diapositiva 1</dc:title>
</cp:coreProperties>
</file>